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3.png" ContentType="image/png"/>
  <Override PartName="/ppt/media/hammer.wav" ContentType="audio/x-wav"/>
  <Override PartName="/ppt/media/image7.png" ContentType="image/png"/>
  <Override PartName="/ppt/media/image12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DAAA-4730-4692-B75E-003195BBD9D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4C28-CA45-4DD9-AA3F-2A43BF1BA0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71B3-600A-4DB9-8B22-FAC8342E66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2907-39F6-4E6D-BDC8-4DD3488318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88D0-C9B6-46A7-9634-8443A19C02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AEDA-5B11-4359-8B3E-6F16A91364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307A-8D0A-4B4B-AFFE-8E114CAF58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FA4B-DCC6-4F0C-AA8A-748B521983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5744-0669-4FC0-9610-13A1F6DF92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9573-3F06-4754-9EAB-C3BE64A38D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2ABB-0AC0-4D32-ABBB-D5DE2E8089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DD1B-9DF0-4F05-9718-5927B00938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52E5-CF17-4C41-83F1-C50320FB97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83F4-AE97-41CA-A751-6CAA0E5360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7EF7-4249-4BFE-ACB1-3A54EB153F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E09F-431C-4992-95CB-ADB111F40A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A478-3C1E-48E7-B80B-5548CD51BF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3D93-D748-4CD6-878C-4A85F8951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498D-F293-4968-BA34-D62ED864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93E4-59C3-4847-81E4-A7A4786BE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F685-8B88-47B7-9B4A-1DB1B74CF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67F6-B2A6-4435-8991-9C97F569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55F8-26AD-4167-887D-BC74D5F1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94B2-A6A7-4AA5-AAD8-1876367F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F38F-6C7D-447E-AD7A-DE94FED7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7CB1-BF71-4DEA-B934-DCFFCD47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6DD5-FFCE-4F3F-A89F-9233A2CF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D7BC-5067-4DE7-9331-DABB086B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DA06-AD34-4DE3-96E6-8A46FBB6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3155-5F32-4DB4-9604-3DDF15385A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1125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楷体_GB2312"/>
              </a:rPr>
              <a:t>北师大版一年级数学下册第二单元课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403280" y="3645000"/>
            <a:ext cx="691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Calibri"/>
                <a:ea typeface="黑体"/>
              </a:rPr>
              <a:t>去游乐园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  <p:sndAc>
      <p:stSnd>
        <p:snd r:embed="rId1" name="hamme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3291480" y="1066680"/>
            <a:ext cx="27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填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cm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还是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3556080" y="580536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房子高约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5"/>
          <p:cNvPicPr/>
          <p:nvPr/>
        </p:nvPicPr>
        <p:blipFill>
          <a:blip r:embed="rId1"/>
          <a:stretch/>
        </p:blipFill>
        <p:spPr>
          <a:xfrm>
            <a:off x="2666880" y="1940040"/>
            <a:ext cx="402912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380880" y="685800"/>
            <a:ext cx="1959120" cy="609480"/>
          </a:xfrm>
          <a:prstGeom prst="rect">
            <a:avLst/>
          </a:prstGeom>
          <a:solidFill>
            <a:srgbClr val="ccffcc"/>
          </a:solidFill>
          <a:ln w="8892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练一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349640" y="1557360"/>
            <a:ext cx="281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．这张课桌大约有多高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6"/>
          <p:cNvPicPr/>
          <p:nvPr/>
        </p:nvPicPr>
        <p:blipFill>
          <a:blip r:embed="rId1"/>
          <a:stretch/>
        </p:blipFill>
        <p:spPr>
          <a:xfrm>
            <a:off x="1704960" y="2195640"/>
            <a:ext cx="6981840" cy="46339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615240" y="2809800"/>
            <a:ext cx="60696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谁猜得对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380880" y="685800"/>
            <a:ext cx="2246400" cy="609480"/>
          </a:xfrm>
          <a:prstGeom prst="rect">
            <a:avLst/>
          </a:prstGeom>
          <a:solidFill>
            <a:srgbClr val="ccffcc"/>
          </a:solidFill>
          <a:ln w="8892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练一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916560" y="1700280"/>
            <a:ext cx="153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．填一填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7"/>
          <p:cNvPicPr/>
          <p:nvPr/>
        </p:nvPicPr>
        <p:blipFill>
          <a:blip r:embed="rId1"/>
          <a:stretch/>
        </p:blipFill>
        <p:spPr>
          <a:xfrm>
            <a:off x="482760" y="3048120"/>
            <a:ext cx="1650960" cy="2441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8"/>
          <p:cNvPicPr/>
          <p:nvPr/>
        </p:nvPicPr>
        <p:blipFill>
          <a:blip r:embed="rId2"/>
          <a:stretch/>
        </p:blipFill>
        <p:spPr>
          <a:xfrm>
            <a:off x="6705720" y="3422520"/>
            <a:ext cx="1904760" cy="18352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3196080" y="2874960"/>
            <a:ext cx="123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一枝铅笔长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2738160" y="371304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旗杆高约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2728440" y="4551480"/>
            <a:ext cx="20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毛巾长约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380880" y="685800"/>
            <a:ext cx="2246400" cy="609480"/>
          </a:xfrm>
          <a:prstGeom prst="rect">
            <a:avLst/>
          </a:prstGeom>
          <a:solidFill>
            <a:srgbClr val="ccffcc"/>
          </a:solidFill>
          <a:ln w="8892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练一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627120" y="1700280"/>
            <a:ext cx="68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练习三"/>
          <p:cNvPicPr/>
          <p:nvPr/>
        </p:nvPicPr>
        <p:blipFill>
          <a:blip r:embed="rId1"/>
          <a:srcRect l="994" t="1515" r="497" b="45386"/>
          <a:stretch/>
        </p:blipFill>
        <p:spPr>
          <a:xfrm>
            <a:off x="76320" y="2359080"/>
            <a:ext cx="899136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380880" y="685800"/>
            <a:ext cx="2103480" cy="609480"/>
          </a:xfrm>
          <a:prstGeom prst="rect">
            <a:avLst/>
          </a:prstGeom>
          <a:solidFill>
            <a:srgbClr val="ccffcc"/>
          </a:solidFill>
          <a:ln w="8892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练一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627120" y="1700280"/>
            <a:ext cx="68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练习三"/>
          <p:cNvPicPr/>
          <p:nvPr/>
        </p:nvPicPr>
        <p:blipFill>
          <a:blip r:embed="rId1"/>
          <a:srcRect l="994" t="1515" r="497" b="45386"/>
          <a:stretch/>
        </p:blipFill>
        <p:spPr>
          <a:xfrm>
            <a:off x="1981080" y="1600200"/>
            <a:ext cx="5410440" cy="2054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2108160" y="3962520"/>
            <a:ext cx="40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全长是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0cm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也是     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380880" y="685800"/>
            <a:ext cx="2462400" cy="609480"/>
          </a:xfrm>
          <a:prstGeom prst="rect">
            <a:avLst/>
          </a:prstGeom>
          <a:solidFill>
            <a:srgbClr val="ccffcc"/>
          </a:solidFill>
          <a:ln w="8892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练一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627120" y="1700280"/>
            <a:ext cx="68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练习三"/>
          <p:cNvPicPr/>
          <p:nvPr/>
        </p:nvPicPr>
        <p:blipFill>
          <a:blip r:embed="rId1"/>
          <a:srcRect l="994" t="1515" r="497" b="45386"/>
          <a:stretch/>
        </p:blipFill>
        <p:spPr>
          <a:xfrm>
            <a:off x="1981080" y="1600200"/>
            <a:ext cx="5410440" cy="20541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2108160" y="3962520"/>
            <a:ext cx="40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全长是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0cm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也是     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363040" y="45720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　　　已经爬了　　 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cm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离终还有     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cm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0" descr="9"/>
          <p:cNvPicPr/>
          <p:nvPr/>
        </p:nvPicPr>
        <p:blipFill>
          <a:blip r:embed="rId2"/>
          <a:stretch/>
        </p:blipFill>
        <p:spPr>
          <a:xfrm>
            <a:off x="2438280" y="4381560"/>
            <a:ext cx="12193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380880" y="685800"/>
            <a:ext cx="2030400" cy="609480"/>
          </a:xfrm>
          <a:prstGeom prst="rect">
            <a:avLst/>
          </a:prstGeom>
          <a:solidFill>
            <a:srgbClr val="ccffcc"/>
          </a:solidFill>
          <a:ln w="8892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练一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627120" y="1700280"/>
            <a:ext cx="68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练习三"/>
          <p:cNvPicPr/>
          <p:nvPr/>
        </p:nvPicPr>
        <p:blipFill>
          <a:blip r:embed="rId1"/>
          <a:srcRect l="994" t="1515" r="497" b="45386"/>
          <a:stretch/>
        </p:blipFill>
        <p:spPr>
          <a:xfrm>
            <a:off x="1981080" y="1600200"/>
            <a:ext cx="5410440" cy="20541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2108160" y="3962520"/>
            <a:ext cx="40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全长是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0cm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也是     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363040" y="45720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　　　已经爬了　　 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cm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离终还有     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cm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10" descr="9"/>
          <p:cNvPicPr/>
          <p:nvPr/>
        </p:nvPicPr>
        <p:blipFill>
          <a:blip r:embed="rId2"/>
          <a:stretch/>
        </p:blipFill>
        <p:spPr>
          <a:xfrm>
            <a:off x="2438280" y="4381560"/>
            <a:ext cx="12193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1"/>
          <p:cNvSpPr/>
          <p:nvPr/>
        </p:nvSpPr>
        <p:spPr>
          <a:xfrm>
            <a:off x="2363040" y="529596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　　　已经爬了　　 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cm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离终还有     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cm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14" descr="22"/>
          <p:cNvPicPr/>
          <p:nvPr/>
        </p:nvPicPr>
        <p:blipFill>
          <a:blip r:embed="rId3"/>
          <a:stretch/>
        </p:blipFill>
        <p:spPr>
          <a:xfrm>
            <a:off x="2590920" y="5195880"/>
            <a:ext cx="838080" cy="5954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5"/>
          <p:cNvSpPr/>
          <p:nvPr/>
        </p:nvSpPr>
        <p:spPr>
          <a:xfrm>
            <a:off x="2412360" y="598176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谁最有可能先到终点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380880" y="685800"/>
            <a:ext cx="1524240" cy="609480"/>
          </a:xfrm>
          <a:prstGeom prst="rect">
            <a:avLst/>
          </a:prstGeom>
          <a:solidFill>
            <a:srgbClr val="ccffcc"/>
          </a:solidFill>
          <a:ln w="8892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练一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558440" y="1700280"/>
            <a:ext cx="255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．画一条长为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cm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线段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尺子"/>
          <p:cNvPicPr/>
          <p:nvPr/>
        </p:nvPicPr>
        <p:blipFill>
          <a:blip r:embed="rId1"/>
          <a:srcRect l="0" t="0" r="6461" b="0"/>
          <a:stretch/>
        </p:blipFill>
        <p:spPr>
          <a:xfrm>
            <a:off x="885960" y="4390920"/>
            <a:ext cx="7724520" cy="866880"/>
          </a:xfrm>
          <a:prstGeom prst="rect">
            <a:avLst/>
          </a:prstGeom>
          <a:ln w="0">
            <a:noFill/>
          </a:ln>
        </p:spPr>
      </p:pic>
      <p:sp>
        <p:nvSpPr>
          <p:cNvPr id="108" name="Line 5"/>
          <p:cNvSpPr/>
          <p:nvPr/>
        </p:nvSpPr>
        <p:spPr>
          <a:xfrm>
            <a:off x="1467000" y="371484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1467000" y="371484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1467000" y="371484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8"/>
          <p:cNvSpPr/>
          <p:nvPr/>
        </p:nvSpPr>
        <p:spPr>
          <a:xfrm>
            <a:off x="1600200" y="371484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1752480" y="371484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1905120" y="371484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Line 11"/>
          <p:cNvSpPr/>
          <p:nvPr/>
        </p:nvSpPr>
        <p:spPr>
          <a:xfrm>
            <a:off x="2057400" y="371484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12"/>
          <p:cNvSpPr/>
          <p:nvPr/>
        </p:nvSpPr>
        <p:spPr>
          <a:xfrm>
            <a:off x="2209680" y="371484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Line 13"/>
          <p:cNvSpPr/>
          <p:nvPr/>
        </p:nvSpPr>
        <p:spPr>
          <a:xfrm>
            <a:off x="2362320" y="371484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Line 14"/>
          <p:cNvSpPr/>
          <p:nvPr/>
        </p:nvSpPr>
        <p:spPr>
          <a:xfrm>
            <a:off x="2514600" y="371484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Line 15"/>
          <p:cNvSpPr/>
          <p:nvPr/>
        </p:nvSpPr>
        <p:spPr>
          <a:xfrm>
            <a:off x="2666880" y="371484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16"/>
          <p:cNvSpPr/>
          <p:nvPr/>
        </p:nvSpPr>
        <p:spPr>
          <a:xfrm>
            <a:off x="2819520" y="371484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17"/>
          <p:cNvSpPr/>
          <p:nvPr/>
        </p:nvSpPr>
        <p:spPr>
          <a:xfrm>
            <a:off x="2971800" y="371484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3124080" y="371484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3276720" y="371484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3429000" y="371484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3581280" y="371484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Line 22"/>
          <p:cNvSpPr/>
          <p:nvPr/>
        </p:nvSpPr>
        <p:spPr>
          <a:xfrm>
            <a:off x="3733920" y="371484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Line 23"/>
          <p:cNvSpPr/>
          <p:nvPr/>
        </p:nvSpPr>
        <p:spPr>
          <a:xfrm>
            <a:off x="3886200" y="371484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Line 24"/>
          <p:cNvSpPr/>
          <p:nvPr/>
        </p:nvSpPr>
        <p:spPr>
          <a:xfrm>
            <a:off x="4048200" y="371484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5"/>
                            </p:stCondLst>
                            <p:childTnLst>
                              <p:par>
                                <p:cTn id="1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"/>
                            </p:stCondLst>
                            <p:childTnLst>
                              <p:par>
                                <p:cTn id="1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25"/>
                            </p:stCondLst>
                            <p:childTnLst>
                              <p:par>
                                <p:cTn id="1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"/>
                            </p:stCondLst>
                            <p:childTnLst>
                              <p:par>
                                <p:cTn id="1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75"/>
                            </p:stCondLst>
                            <p:childTnLst>
                              <p:par>
                                <p:cTn id="1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50"/>
                            </p:stCondLst>
                            <p:childTnLst>
                              <p:par>
                                <p:cTn id="1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25"/>
                            </p:stCondLst>
                            <p:childTnLst>
                              <p:par>
                                <p:cTn id="1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00"/>
                            </p:stCondLst>
                            <p:childTnLst>
                              <p:par>
                                <p:cTn id="1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75"/>
                            </p:stCondLst>
                            <p:childTnLst>
                              <p:par>
                                <p:cTn id="1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750"/>
                            </p:stCondLst>
                            <p:childTnLst>
                              <p:par>
                                <p:cTn id="1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825"/>
                            </p:stCondLst>
                            <p:childTnLst>
                              <p:par>
                                <p:cTn id="1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900"/>
                            </p:stCondLst>
                            <p:childTnLst>
                              <p:par>
                                <p:cTn id="1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975"/>
                            </p:stCondLst>
                            <p:childTnLst>
                              <p:par>
                                <p:cTn id="1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50"/>
                            </p:stCondLst>
                            <p:childTnLst>
                              <p:par>
                                <p:cTn id="1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125"/>
                            </p:stCondLst>
                            <p:childTnLst>
                              <p:par>
                                <p:cTn id="1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380880" y="685800"/>
            <a:ext cx="1524240" cy="609480"/>
          </a:xfrm>
          <a:prstGeom prst="rect">
            <a:avLst/>
          </a:prstGeom>
          <a:solidFill>
            <a:srgbClr val="ccffcc"/>
          </a:solidFill>
          <a:ln w="8892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练一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558440" y="1700280"/>
            <a:ext cx="255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．画一条长为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cm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线段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Line 4"/>
          <p:cNvSpPr/>
          <p:nvPr/>
        </p:nvSpPr>
        <p:spPr>
          <a:xfrm>
            <a:off x="4643280" y="3716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2050920" y="4508640"/>
            <a:ext cx="2590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330640" y="48006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1.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在（  ）里填上合适的长度单位（㎝或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m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）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292428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大客车长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（    ）         梳子长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8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篮球场长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28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（    ）         文具盒长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20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（    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大树高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6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（    ）           小明高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35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alibri"/>
                <a:ea typeface="华文新魏"/>
              </a:rPr>
              <a:t>学习目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229600" cy="34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认识米、厘米，体会米、厘米的实际意义，能估计较长物体的长度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掌握米和厘米之间的关系，能恰当选择单位表示物体的长度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认识米尺，会用米尺测量物体的长度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你能把下面的数量按从小到大的顺序排列起来吗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3716280"/>
            <a:ext cx="8229600" cy="22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56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㎝    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1m    130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㎝   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83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㎝   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74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（   ）＜ （   ）＜ （   ）＜ （   ）＜ （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在一条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8m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长的走廊里放花盆，每隔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2m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放一盆，一共要多少盆花？（两头都放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1692360" y="1197000"/>
            <a:ext cx="611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说说收获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900000" y="278136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通过今天的学习，你有哪些新的收获？你还有哪些数学问题？交流一下吧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2215800" y="7650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１米有多少厘米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078640" y="1916280"/>
            <a:ext cx="54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米可以用字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表示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米可以写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819520" y="3124080"/>
            <a:ext cx="4416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１米＝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0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厘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2340000" y="4437000"/>
            <a:ext cx="4705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１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m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0c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量身高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2"/>
          <p:cNvSpPr/>
          <p:nvPr/>
        </p:nvSpPr>
        <p:spPr>
          <a:xfrm>
            <a:off x="3505320" y="1066680"/>
            <a:ext cx="4883040" cy="1785960"/>
          </a:xfrm>
          <a:prstGeom prst="cloudCallout">
            <a:avLst>
              <a:gd name="adj1" fmla="val -44148"/>
              <a:gd name="adj2" fmla="val 48578"/>
            </a:avLst>
          </a:prstGeom>
          <a:solidFill>
            <a:srgbClr val="d8ff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讲台的长大约是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1"/>
          <p:cNvPicPr/>
          <p:nvPr/>
        </p:nvPicPr>
        <p:blipFill>
          <a:blip r:embed="rId1"/>
          <a:stretch/>
        </p:blipFill>
        <p:spPr>
          <a:xfrm>
            <a:off x="1170000" y="1981080"/>
            <a:ext cx="2411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2"/>
          <p:cNvSpPr/>
          <p:nvPr/>
        </p:nvSpPr>
        <p:spPr>
          <a:xfrm>
            <a:off x="1116000" y="907920"/>
            <a:ext cx="3733920" cy="1371600"/>
          </a:xfrm>
          <a:prstGeom prst="cloudCallout">
            <a:avLst>
              <a:gd name="adj1" fmla="val 54592"/>
              <a:gd name="adj2" fmla="val 57523"/>
            </a:avLst>
          </a:prstGeom>
          <a:solidFill>
            <a:srgbClr val="d8ff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这是一把１米长的尺子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2"/>
          <p:cNvPicPr/>
          <p:nvPr/>
        </p:nvPicPr>
        <p:blipFill>
          <a:blip r:embed="rId1"/>
          <a:stretch/>
        </p:blipFill>
        <p:spPr>
          <a:xfrm>
            <a:off x="4952880" y="1523880"/>
            <a:ext cx="35179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2987640" y="1125360"/>
            <a:ext cx="3456000" cy="838440"/>
          </a:xfrm>
          <a:prstGeom prst="rect">
            <a:avLst/>
          </a:prstGeom>
          <a:gradFill rotWithShape="0">
            <a:gsLst>
              <a:gs pos="0">
                <a:srgbClr val="ccff66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eece1"/>
                </a:solidFill>
                <a:latin typeface="Times New Roman"/>
                <a:ea typeface="华文新魏"/>
              </a:rPr>
              <a:t>说一说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547640" y="3213000"/>
            <a:ext cx="621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什么东西的长大约是</a:t>
            </a:r>
            <a:r>
              <a:rPr b="0" lang="en-US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米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3291480" y="1066680"/>
            <a:ext cx="27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填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cm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还是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3"/>
          <p:cNvPicPr/>
          <p:nvPr/>
        </p:nvPicPr>
        <p:blipFill>
          <a:blip r:embed="rId1"/>
          <a:stretch/>
        </p:blipFill>
        <p:spPr>
          <a:xfrm>
            <a:off x="3160800" y="2209680"/>
            <a:ext cx="2820960" cy="32353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3435480" y="580536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衣柜高约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291480" y="1066680"/>
            <a:ext cx="27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填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cm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还是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271320" y="5805360"/>
            <a:ext cx="152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黄瓜长约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4"/>
          <p:cNvPicPr/>
          <p:nvPr/>
        </p:nvPicPr>
        <p:blipFill>
          <a:blip r:embed="rId1"/>
          <a:stretch/>
        </p:blipFill>
        <p:spPr>
          <a:xfrm>
            <a:off x="3303720" y="1812960"/>
            <a:ext cx="286848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26T22:45:24Z</dcterms:created>
  <dc:creator>User</dc:creator>
  <dc:description/>
  <dc:language>en-US</dc:language>
  <cp:lastModifiedBy>User</cp:lastModifiedBy>
  <dcterms:modified xsi:type="dcterms:W3CDTF">2017-07-26T22:45:41Z</dcterms:modified>
  <cp:revision>1</cp:revision>
  <dc:subject/>
  <dc:title>幻灯片 1</dc:title>
</cp:coreProperties>
</file>